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A1CF1-B91E-43C7-AAB6-45E9F1D3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2AFAD-D5A8-4A49-8A83-404829BA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BEAD9-2205-4390-8F0D-7091CFE2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DCECF-1378-4E3F-859C-8A9B446C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1A5E-E6FD-4228-BC73-D7C308DB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2D9D-63CD-48C9-92E9-5F0AE020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574F-8F27-44C5-A441-A9B9DC5F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9CA6-0B97-464F-9AA9-8E34306A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3E55-E917-40A9-96C7-84927144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A68F-EF40-4016-AF04-12CAC707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E1A6-66DC-43D6-82DD-838DE174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8CCE6-E4E2-421E-8A19-95C56C5B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0E00-BAB4-4CA1-86D0-19B55646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8B1B-1F89-4A16-9E62-47322E1E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8CA0-3832-4F23-8CB4-C77C4F20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68E5-5C1D-4647-8D18-FC80F08E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40BB-C04F-4E63-9B6D-067B1618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DD3A-BAEF-4B95-8E63-4924F65A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DEEB5-6A9C-4173-8C6E-EA100DEB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4466A-85ED-4023-AAAC-C4325CE3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C97F0-09B9-42BB-95A6-B3D4BB09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D5924-9DB1-45B6-A092-2567E8F1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382E-3141-477B-8727-149BFA46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DF80F-171F-4691-AB51-715D78AF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79AF-D797-458F-9F42-71416F2103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5678-EEB7-45B1-9A0B-C6BC765971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agram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004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ing a Column Trans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have a good estimate for the size of a column transposition you need to discover the correct arrangement of colum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ool that may help in this process in the Anagram tool provided by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llows you to try to arrange the columns to produc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ace to begin is to look for rows that have letters that commonly belong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D41BE-67F1-446C-8488-D07BC6DB88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8960" y="215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in all languages there are certain letters usually of medium or low frequency which combine with other letters to form diagrams of high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(medium frequency) combines with T to form TH (highest 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combines with C (medium frequency) to form 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low frequency) combines with E to form VE (medium frequency in military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ossible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re is an H, attempts should be made to combine it with a T or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 should be combined first with an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 should be combined first with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9FA1-20B3-456B-919D-C598364ABF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re is usually in every language at least one letter which can be followed by only certain other letters form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ory sequ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ariable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is always followed by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can only be followed by a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can be preceded only by a vowel and except at the end of a word can only be succeeded by a vowel or C, H, P, 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such as these with limited affinity are called pilo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87C6B-E294-4C17-A959-D68FC789EA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iban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8014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ther possible letter pairs the Centiban table could be help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 government studied a set of 5,000 digrams and produced a table of what are called centiban we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able contains the logarithm of twice the frequency of each di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87520" y="3305160"/>
            <a:ext cx="676440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A   B   C   D   E   F   G   H   I   J   K   L   M   N   O   P   Q   R   S   T   U   V   W   X   Y  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A  33  45  61  73  13  38  45  25  64  13  25  76  61  89  25  58  00  82  80  83  59  48  33  00  58  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B  38  00  00  00  66  00  00  00  25  13  00  45  13  00  38  00  00  25  13  13  25  00  00  00  48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C  67  00  33  13  76  13  00  61  48  00  38  42  13  13  80  00  00  38  13  61  38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D  76  38  38  51  77  51  25  25  73  13  00  33  42  38  63  42  25  58  59  62  42  33  38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E  78  38  76  88  81  66  38  48  73  13  00  74  61  99  58  67  58  94  86  79  33  67  48  48  38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F  42  00  25  13  55  56  13  00  80  00  00  25  13  00  80  13  00  53  33  56  33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G  48  00  25  13  61  25  13  67  42  13  00  25  13  33  45  25  00  42  33  38  25  00  13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H  67  13  33  25  67  42  00  00  77  00  00  13  25  33  67  13  13  64  38  74  51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I  51  25  69  45  59  55  67  00  00  00  25  70  53  92  80  48  00  73  78  73  00  72  00  62  00 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J  18  00  00  00  25  00  00  00  00  00  00  00  00  00  25  00  00  00  00  00  25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K  13  00  13  00  45  00  00  00  25  00  00  13  00  13  00  00  00  00  13  00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L  74  33  33  53  79  33  13  13  67  00  00  73  25  13  59  33  00  25  45  51  25  25  25  00  5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M  78  45  33  13  72  13  00  13  53  00  00  00  59  00  55  51  00  25  38  25  25  00  00  00  2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N  72  25  67  85  87  53  73  38  75  13  25  42  42  51  66  33  13  38  71  93  48  33  33  00  42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O  48  38  51  58  33  72  25  33  42  13  25  67  72  92  45  72  00  89  61  67  79  48  51  13  2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P  61  13  13  13  70  25  00  33  45  00  00  59  38  13  64  56  00  66  45  51  33  13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Q  00  00  00  00  00  00  00  00  00  00  00  00  13  00  00  00  00  13  00  00  62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R  80  25  53  64  96  45  48  33  75  13  13  42  53  48  74  59  00  56  75  81  42  42  38  00  5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S  71  33  59  42  84  58  25  72  77  00  13  25  33  38  62  55  00  42  67  88  56  13  38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T  74  33  45  45  91  48  13  92  82  00  00  42  45  48  84  25  13  64  67  67  42  00  78  00  80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U  42  33  33  33  56  13  51  00  42  00  00  45  42  68  13  25  00  75  58  58  00  13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V  45  00  00  00  87  00  00  00  58  00  00  00  00  00  13  00  00  00  00  13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W  58  00  00  00  69  00  00  38  59  00  00  13  00  25  67  00  00  13  13  00  00  00  00  00  13  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X  25  00  25  13  13  13  00  13  25  00  00  00  00  13  13  25  00  13  13  48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Y  45  25  38  38  53  56  13  13  33  00  00  25  25  45  55  33  00  38  56  62  13  00  13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Z  13  00  00  00  25  00  00  00  13  00  00  00  00  00  00  00  00  00  00  00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6360" y="2965320"/>
            <a:ext cx="16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Second 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57040" y="3254400"/>
            <a:ext cx="32148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1800" y="2443320"/>
            <a:ext cx="168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he higher the score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he more likely the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wo letter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a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EE4DF-0C46-4B3B-81C6-F35513438A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22T08:15:24Z</dcterms:modified>
  <cp:revision>47</cp:revision>
  <dc:subject/>
  <dc:title>CAP Cryptographic Analysis Program</dc:title>
</cp:coreProperties>
</file>